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981440" cy="87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7010280" y="5867280"/>
            <a:ext cx="1828800" cy="80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fessional Lear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Development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st Evidence Synthesis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len Timperle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aron Wilson and Heather Barra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733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952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105520"/>
            <a:ext cx="495288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arning Langu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ch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Mapping the Studi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7 studies analysed against 84 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 90%+ inter-rater reliab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eated theoretical framework as neutr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hort description for each characteristic entered onto an Excel spreadshe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Lots of bl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Synthesis Structu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Verdana"/>
              </a:rPr>
              <a:t>Summary of find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parate syntheses f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thema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Liter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Reframing social constructions of stud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Verdana"/>
              </a:rPr>
              <a:t>Specific top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ultiple roles of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rofessional learning comm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ondary sch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role of personal teacher the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Verdana"/>
              </a:rPr>
              <a:t>Case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Reflection activit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In small groups, discuss one example of effective or ineffective professional development you had as a teacher (or similar),using the questions as a gui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Overview of Findings</a:t>
            </a:r>
            <a:br>
              <a:rPr sz="4800"/>
            </a:b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NZ" sz="3000" spc="-1" strike="noStrike">
                <a:solidFill>
                  <a:srgbClr val="ff502b"/>
                </a:solidFill>
                <a:latin typeface="Verdana"/>
              </a:rPr>
              <a:t>The </a:t>
            </a:r>
            <a:r>
              <a:rPr b="0" lang="en-NZ" sz="3000" spc="-1" strike="noStrike">
                <a:solidFill>
                  <a:srgbClr val="333399"/>
                </a:solidFill>
                <a:latin typeface="Verdana"/>
              </a:rPr>
              <a:t>Context</a:t>
            </a:r>
            <a:r>
              <a:rPr b="0" lang="en-NZ" sz="3000" spc="-1" strike="noStrike">
                <a:solidFill>
                  <a:srgbClr val="ff502b"/>
                </a:solidFill>
                <a:latin typeface="Verdana"/>
              </a:rPr>
              <a:t> of Professional Learning and Development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Voluntary or Compulsory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Neither who initiated  the professional learning opportunities nor whether they were voluntary or compulsory was associated with particular outcomes for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What was more important was that teachers engaged in the learning process at some point.</a:t>
            </a:r>
            <a:r>
              <a:rPr b="0" lang="en-NZ" sz="1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NZ" sz="3000" spc="-1" strike="noStrike">
                <a:solidFill>
                  <a:srgbClr val="ff0000"/>
                </a:solidFill>
                <a:latin typeface="Verdana"/>
              </a:rPr>
              <a:t>Effective Contexts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xtended time and frequent contact was necessary but not suffic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xternal expertise was typically necessary but not suffic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vailing discourses challeng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t necessarily school-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pportunities to participate in a professional community of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ctive school leadership in school-based c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502b"/>
                </a:solidFill>
                <a:latin typeface="Verdana"/>
              </a:rPr>
              <a:t>Active School Leadership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Verdana"/>
              </a:rPr>
              <a:t>Effective lead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Organised a supportive learning environ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Participated in the learning with teach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Provided alternative visions, targets and goals for student outcomes and monitore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Developed the leadership of othe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The Content of Professional Learn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flected a view of teaching as a complex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fferent aspects of teaching &amp; learning integrated in a coherent m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igned theory with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tablished clear links between teaching and learning outcom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ssessment used to focus teaching and enhance self-reg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ustainability rarely repor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Integrating different aspects of conten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2057400"/>
          <a:ext cx="853452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5345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Introduction</a:t>
            </a:r>
            <a:br>
              <a:rPr sz="4800"/>
            </a:b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0000"/>
                </a:solidFill>
                <a:latin typeface="Verdana"/>
              </a:rPr>
              <a:t>Teacher Learning Activit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All core studies employed a variety of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Apart from listening to those with expertise, no single type of activity was common to all stud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No individual activity stood out as more effective than others across studies or within particular catego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Every type of activity that was associated with positive outcomes, was also associated with low or no impa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0000"/>
                </a:solidFill>
                <a:latin typeface="Verdana"/>
              </a:rPr>
              <a:t>Alignment of Activities to Conten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1522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There was a clear alignment between the intended learning goals and the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Individual activities often served multiple purpo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Activities served to develop teachers’ understanding of the relationship between their teaching and student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</a:rPr>
              <a:t>Providers engaged with teachers’ own theories of practi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Verdana"/>
              </a:rPr>
              <a:t>Typical Sequence of Professional Learning Opportunities</a:t>
            </a:r>
            <a:br>
              <a:rPr sz="20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62120" y="1465200"/>
          <a:ext cx="8001000" cy="48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65200"/>
                    <a:ext cx="80010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Teacher learning processes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8288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 </a:t>
            </a:r>
            <a:r>
              <a:rPr b="0" lang="en-NZ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Changing practice in substantive ways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 </a:t>
            </a:r>
            <a:r>
              <a:rPr b="0" lang="en-NZ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Specific teacher learning processes were usually implied rather than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Teachers’ responses were also more often implied than spec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New Understanding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All core studies involved teachers developing new understandings and extending their skills through becoming aware of new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Some new understandings were consistent with current posi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Others created dissonance with current posi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A few developed enhanced regulation of own and others’ lear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hree-inquiry diagram 11 Blank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5791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134136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knowledge and skills do our students  ne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209680"/>
            <a:ext cx="2171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knowledge and skills do we as professionals ne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3657600"/>
            <a:ext cx="18669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has been the impact of our changed action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4797360"/>
            <a:ext cx="2066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Deepen professional knowledge and refine 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5661000"/>
            <a:ext cx="1727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Engage students in new learning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inquiry and knowledge-building cy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promote valued student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4760" y="-32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760" y="-50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f we are to be more sophisticated in how we approach teacher professional learning then the theoretical and empirical literatures need to be brought more closely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ongside this we need more sophisticated theories of how to promote the professional learning of teach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2362320"/>
            <a:ext cx="1656000" cy="149220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 learning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362320"/>
            <a:ext cx="2879640" cy="1492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acher interpretation and utilization of targeted understandings and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9120" y="2362320"/>
            <a:ext cx="2664000" cy="149220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r outcom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in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change in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724280"/>
            <a:ext cx="2879640" cy="1492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learning outcom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improv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4800600"/>
            <a:ext cx="2879640" cy="1492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udent interpretation and utilization of targeted understandings and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07120" y="4800600"/>
            <a:ext cx="1656000" cy="1492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learning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96080" y="4038480"/>
            <a:ext cx="273240" cy="639720"/>
          </a:xfrm>
          <a:prstGeom prst="downArrow">
            <a:avLst>
              <a:gd name="adj1" fmla="val 50000"/>
              <a:gd name="adj2" fmla="val 5853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3124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124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562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556272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09200"/>
            <a:ext cx="91440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The Black Boxes of Teacher and Student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Main Research Ques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hat kinds of professional learning opportunities for teachers result in an impact on student outcom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hy limit the synthesis to studies with  student outco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professional development provider walks into a school 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elivers a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upports teachers with ongoing observations and feed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eachers successfully im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tudent achie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dership BE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Robinson, Hohepa &amp; Lloyd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2057400"/>
          <a:ext cx="7772400" cy="4548240"/>
        </p:xfrm>
        <a:graphic>
          <a:graphicData uri="http://schemas.openxmlformats.org/drawingml/2006/table">
            <a:tbl>
              <a:tblPr/>
              <a:tblGrid>
                <a:gridCol w="5334120"/>
                <a:gridCol w="243828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 Dim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ing goals and expec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ES = 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ategic resourc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ES =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, coordinating and evaluating teac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ES =0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ing and participating in teacher learning &amp;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ES =0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ing an orderly &amp; supportive enviro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ES =0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Methodology and Theoretical Framing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e Process of Selecting Core Studi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1143000"/>
            <a:ext cx="4647960" cy="129420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sis of Student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equacy of 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ce of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3504960" cy="1985760"/>
          </a:xfrm>
          <a:prstGeom prst="rect">
            <a:avLst/>
          </a:prstGeom>
          <a:solidFill>
            <a:srgbClr val="44df8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e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um to high 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stantive quantitative and/or qualitative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um to broad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962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2666880"/>
            <a:ext cx="3962160" cy="2117160"/>
          </a:xfrm>
          <a:prstGeom prst="rect">
            <a:avLst/>
          </a:prstGeom>
          <a:solidFill>
            <a:srgbClr val="ff99cc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ementar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um to high methodology but low or no impact on student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er methodological adequacy but with substantive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029200"/>
            <a:ext cx="3886200" cy="36828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ped onto theoretical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5029200"/>
            <a:ext cx="3809880" cy="36828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to inform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563868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809800">
            <a:off x="6793920" y="2138400"/>
            <a:ext cx="711360" cy="381240"/>
          </a:xfrm>
          <a:prstGeom prst="rightArrow">
            <a:avLst>
              <a:gd name="adj1" fmla="val 50000"/>
              <a:gd name="adj2" fmla="val 46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9098600">
            <a:off x="1752120" y="20574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47242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47242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5562720"/>
            <a:ext cx="5791320" cy="642600"/>
          </a:xfrm>
          <a:prstGeom prst="rect">
            <a:avLst/>
          </a:prstGeom>
          <a:solidFill>
            <a:srgbClr val="000000"/>
          </a:solidFill>
          <a:ln w="22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Characteristics of Professional Learning Associated with Medium/High Impact For Particular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09480" y="1219320"/>
            <a:ext cx="6554880" cy="5430600"/>
            <a:chOff x="609480" y="1219320"/>
            <a:chExt cx="6554880" cy="5430600"/>
          </a:xfrm>
        </p:grpSpPr>
        <p:sp>
          <p:nvSpPr>
            <p:cNvPr id="120" name=""/>
            <p:cNvSpPr/>
            <p:nvPr/>
          </p:nvSpPr>
          <p:spPr>
            <a:xfrm>
              <a:off x="609480" y="1219320"/>
              <a:ext cx="6554880" cy="5430600"/>
            </a:xfrm>
            <a:prstGeom prst="roundRect">
              <a:avLst>
                <a:gd name="adj" fmla="val 16667"/>
              </a:avLst>
            </a:prstGeom>
            <a:solidFill>
              <a:srgbClr val="f1f1f1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2200" y="2101320"/>
              <a:ext cx="6067080" cy="4294080"/>
            </a:xfrm>
            <a:prstGeom prst="roundRect">
              <a:avLst>
                <a:gd name="adj" fmla="val 16667"/>
              </a:avLst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081440" y="1305720"/>
              <a:ext cx="5200200" cy="685800"/>
              <a:chOff x="1081440" y="1305720"/>
              <a:chExt cx="5200200" cy="685800"/>
            </a:xfrm>
          </p:grpSpPr>
          <p:sp>
            <p:nvSpPr>
              <p:cNvPr id="123" name=""/>
              <p:cNvSpPr/>
              <p:nvPr/>
            </p:nvSpPr>
            <p:spPr>
              <a:xfrm>
                <a:off x="3248280" y="1305720"/>
                <a:ext cx="30333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▪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Formal educational policies/curriculum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▪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evailing discours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▪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School organis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81440" y="1381680"/>
                <a:ext cx="1926000" cy="51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Wider social contex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503000" y="2333880"/>
              <a:ext cx="4766760" cy="9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The professional learning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▪</a:t>
              </a:r>
              <a:r>
                <a:rPr b="0" lang="en-AU" sz="11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eople and practical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▪</a:t>
              </a:r>
              <a:r>
                <a:rPr b="0" lang="en-AU" sz="11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rofessional learning goa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4600" y="5171040"/>
              <a:ext cx="5200560" cy="34308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28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sponses of diverse teacher learners/commun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0080" y="5849640"/>
              <a:ext cx="3900240" cy="342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3b00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mpact on diverse student learn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87280" y="3278160"/>
              <a:ext cx="2248920" cy="9086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Content of the professional development/learning opportun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03080" y="3277080"/>
              <a:ext cx="2229120" cy="9086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Activities constructed to promote the learn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426480" y="3620160"/>
              <a:ext cx="876240" cy="698400"/>
              <a:chOff x="3426480" y="3620160"/>
              <a:chExt cx="876240" cy="69840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3426480" y="3620160"/>
                <a:ext cx="8762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69280" y="3620160"/>
                <a:ext cx="0" cy="698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997720" y="4336560"/>
              <a:ext cx="1733400" cy="801000"/>
              <a:chOff x="2997720" y="4336560"/>
              <a:chExt cx="1733400" cy="801000"/>
            </a:xfrm>
          </p:grpSpPr>
          <p:sp>
            <p:nvSpPr>
              <p:cNvPr id="134" name=""/>
              <p:cNvSpPr/>
              <p:nvPr/>
            </p:nvSpPr>
            <p:spPr>
              <a:xfrm>
                <a:off x="2997720" y="4336560"/>
                <a:ext cx="1733400" cy="51444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Learning process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63160" y="4859640"/>
                <a:ext cx="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857400" y="5535360"/>
              <a:ext cx="0" cy="27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22:24:58Z</dcterms:created>
  <dc:creator>Studio 4</dc:creator>
  <dc:description/>
  <dc:language>en-US</dc:language>
  <cp:lastModifiedBy>Aaron Wilson</cp:lastModifiedBy>
  <cp:lastPrinted>2008-03-17T02:24:10Z</cp:lastPrinted>
  <dcterms:modified xsi:type="dcterms:W3CDTF">2008-03-17T02:54:59Z</dcterms:modified>
  <cp:revision>58</cp:revision>
  <dc:subject/>
  <dc:title>PowerPoint Presentation</dc:title>
</cp:coreProperties>
</file>